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0E51EA-84DE-4DAB-911A-507DE6A75AC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7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7831B2E-109B-4D2A-AEB7-EB4FA8A602F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8F2-4CFA-4393-A6DC-CDCBE8D5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304-45A7-45E7-8F5D-8825C3C6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47C-1AEE-4EC4-9EE5-A31CC061F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7EDF-2747-42AC-B4DD-AB354DC5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AFC7-230C-4CB4-91CC-2824CFE4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0E5-FAF3-47B5-8CEE-3235AB11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3A7-F405-4B71-A81D-1CB43B67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1786-81F8-4ACE-A1D4-1F291B21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EC8-E362-447C-908E-37B63CF8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A28-00E6-4FE9-BD5F-421E0C26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45E-C53A-42D9-81A0-E342359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E40-D7EF-45E2-83AC-FE779AD5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5A8F-555A-4633-9440-1EFB2697A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online.fasie.ru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ЫЙ КОНКУР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ОММЕРЦИАЛИЗАЦИ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МАЛЫХ ИННОВАЦИОННЫХ ПРЕДПРИЯТ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 предоставлению грантов на финансовое обеспечение (возмещение) расходов, связанных с реализацией инновационных проектов, результаты которых имеют перспективу коммерциализаци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 исключением расходов на выполнение научно-исследовательских и опытно-конструкторских рабо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4370400" cy="1506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324000" y="623736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бочее название конкурса, возможны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4720" y="340920"/>
            <a:ext cx="651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РИАНТЫ ФИНАНСИРОВАНИЯ МАЛЫХ ИННОВАЦИОННЫ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хема 10" descr=""/>
          <p:cNvPicPr/>
          <p:nvPr/>
        </p:nvPicPr>
        <p:blipFill>
          <a:blip r:embed="rId2"/>
          <a:stretch/>
        </p:blipFill>
        <p:spPr>
          <a:xfrm>
            <a:off x="407880" y="2457360"/>
            <a:ext cx="3756240" cy="186552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11" descr=""/>
          <p:cNvPicPr/>
          <p:nvPr/>
        </p:nvPicPr>
        <p:blipFill>
          <a:blip r:embed="rId3"/>
          <a:stretch/>
        </p:blipFill>
        <p:spPr>
          <a:xfrm>
            <a:off x="4803840" y="2444760"/>
            <a:ext cx="4626000" cy="1859040"/>
          </a:xfrm>
          <a:prstGeom prst="rect">
            <a:avLst/>
          </a:prstGeom>
          <a:ln w="0">
            <a:noFill/>
          </a:ln>
        </p:spPr>
      </p:pic>
      <p:cxnSp>
        <p:nvCxnSpPr>
          <p:cNvPr id="55" name="Прямая со стрелкой 6"/>
          <p:cNvCxnSpPr/>
          <p:nvPr/>
        </p:nvCxnSpPr>
        <p:spPr>
          <a:xfrm flipH="1">
            <a:off x="2339640" y="1483920"/>
            <a:ext cx="1152720" cy="99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7"/>
          <p:cNvCxnSpPr/>
          <p:nvPr/>
        </p:nvCxnSpPr>
        <p:spPr>
          <a:xfrm>
            <a:off x="5580000" y="1483920"/>
            <a:ext cx="1008720" cy="99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xtBox 12"/>
          <p:cNvSpPr/>
          <p:nvPr/>
        </p:nvSpPr>
        <p:spPr>
          <a:xfrm>
            <a:off x="1403280" y="4653000"/>
            <a:ext cx="6553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курсе могут принимать участие юридические лица и индивидуальные предприниматели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ствующие не менее г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ответствующие критериям отнесения к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бъекту малого предприниматель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соответствии с Федеральным законом № 209-ФЗ от 24.07.2007 г., среди видов экономической деятельности которых име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д ОКВЭД 72.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учные исследования и разработки в области естественных и технических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формление и подача заявок производится в сети Интернет по адр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online.fasie.ru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ил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www.система-фонд.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язательная документация для участия в конкур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хема 3" descr=""/>
          <p:cNvPicPr/>
          <p:nvPr/>
        </p:nvPicPr>
        <p:blipFill>
          <a:blip r:embed="rId2"/>
          <a:stretch/>
        </p:blipFill>
        <p:spPr>
          <a:xfrm>
            <a:off x="1182600" y="1262160"/>
            <a:ext cx="6894720" cy="2176200"/>
          </a:xfrm>
          <a:prstGeom prst="rect">
            <a:avLst/>
          </a:prstGeom>
          <a:ln w="0">
            <a:noFill/>
          </a:ln>
        </p:spPr>
      </p:pic>
      <p:sp>
        <p:nvSpPr>
          <p:cNvPr id="60" name="Скругленный прямоугольник 4"/>
          <p:cNvSpPr/>
          <p:nvPr/>
        </p:nvSpPr>
        <p:spPr>
          <a:xfrm>
            <a:off x="1301760" y="3948120"/>
            <a:ext cx="294012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финансовое обеспеч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5219640" y="3933720"/>
            <a:ext cx="2808360" cy="432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возмещ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6"/>
          <p:cNvGrpSpPr/>
          <p:nvPr/>
        </p:nvGrpSpPr>
        <p:grpSpPr>
          <a:xfrm>
            <a:off x="1301760" y="4657680"/>
            <a:ext cx="2952720" cy="576360"/>
            <a:chOff x="1301760" y="4657680"/>
            <a:chExt cx="2952720" cy="576360"/>
          </a:xfrm>
        </p:grpSpPr>
        <p:sp>
          <p:nvSpPr>
            <p:cNvPr id="63" name="Скругленный прямоугольник 13"/>
            <p:cNvSpPr/>
            <p:nvPr/>
          </p:nvSpPr>
          <p:spPr>
            <a:xfrm>
              <a:off x="1301760" y="4790520"/>
              <a:ext cx="2952720" cy="443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Скругленный прямоугольник 4"/>
            <p:cNvSpPr/>
            <p:nvPr/>
          </p:nvSpPr>
          <p:spPr>
            <a:xfrm>
              <a:off x="1306800" y="4657680"/>
              <a:ext cx="2942640" cy="5547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календарный план выполнения инновационного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Группа 7"/>
          <p:cNvGrpSpPr/>
          <p:nvPr/>
        </p:nvGrpSpPr>
        <p:grpSpPr>
          <a:xfrm>
            <a:off x="1297080" y="5211720"/>
            <a:ext cx="2952720" cy="488880"/>
            <a:chOff x="1297080" y="5211720"/>
            <a:chExt cx="2952720" cy="488880"/>
          </a:xfrm>
        </p:grpSpPr>
        <p:sp>
          <p:nvSpPr>
            <p:cNvPr id="66" name="Скругленный прямоугольник 11"/>
            <p:cNvSpPr/>
            <p:nvPr/>
          </p:nvSpPr>
          <p:spPr>
            <a:xfrm>
              <a:off x="1297080" y="5211720"/>
              <a:ext cx="2952720" cy="488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Скругленный прямоугольник 6"/>
            <p:cNvSpPr/>
            <p:nvPr/>
          </p:nvSpPr>
          <p:spPr>
            <a:xfrm>
              <a:off x="1302120" y="5235480"/>
              <a:ext cx="2942640" cy="4413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смета расходов на выполнение инновационного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Группа 8"/>
          <p:cNvGrpSpPr/>
          <p:nvPr/>
        </p:nvGrpSpPr>
        <p:grpSpPr>
          <a:xfrm>
            <a:off x="1297080" y="5676840"/>
            <a:ext cx="2952720" cy="542880"/>
            <a:chOff x="1297080" y="5676840"/>
            <a:chExt cx="2952720" cy="542880"/>
          </a:xfrm>
        </p:grpSpPr>
        <p:sp>
          <p:nvSpPr>
            <p:cNvPr id="69" name="Скругленный прямоугольник 9"/>
            <p:cNvSpPr/>
            <p:nvPr/>
          </p:nvSpPr>
          <p:spPr>
            <a:xfrm>
              <a:off x="1297080" y="5676840"/>
              <a:ext cx="2952720" cy="54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Скругленный прямоугольник 8"/>
            <p:cNvSpPr/>
            <p:nvPr/>
          </p:nvSpPr>
          <p:spPr>
            <a:xfrm>
              <a:off x="1302120" y="5703120"/>
              <a:ext cx="2942640" cy="48996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документы, подтверждающие привлечение денежных средств инвестора или собственных средст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Группа 15"/>
          <p:cNvGrpSpPr/>
          <p:nvPr/>
        </p:nvGrpSpPr>
        <p:grpSpPr>
          <a:xfrm>
            <a:off x="5268960" y="4668840"/>
            <a:ext cx="2809800" cy="685800"/>
            <a:chOff x="5268960" y="4668840"/>
            <a:chExt cx="2809800" cy="685800"/>
          </a:xfrm>
        </p:grpSpPr>
        <p:sp>
          <p:nvSpPr>
            <p:cNvPr id="72" name="Скругленный прямоугольник 19"/>
            <p:cNvSpPr/>
            <p:nvPr/>
          </p:nvSpPr>
          <p:spPr>
            <a:xfrm>
              <a:off x="5268960" y="4668840"/>
              <a:ext cx="280980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Скругленный прямоугольник 4"/>
            <p:cNvSpPr/>
            <p:nvPr/>
          </p:nvSpPr>
          <p:spPr>
            <a:xfrm>
              <a:off x="5280480" y="4702320"/>
              <a:ext cx="2786760" cy="61884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9680" rIns="49680" tIns="49680" bIns="4968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финансовый отчет о понесенных расходах на реализацию проекта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Группа 16"/>
          <p:cNvGrpSpPr/>
          <p:nvPr/>
        </p:nvGrpSpPr>
        <p:grpSpPr>
          <a:xfrm>
            <a:off x="5268960" y="5334120"/>
            <a:ext cx="2809800" cy="885600"/>
            <a:chOff x="5268960" y="5334120"/>
            <a:chExt cx="2809800" cy="885600"/>
          </a:xfrm>
        </p:grpSpPr>
        <p:sp>
          <p:nvSpPr>
            <p:cNvPr id="75" name="Скругленный прямоугольник 17"/>
            <p:cNvSpPr/>
            <p:nvPr/>
          </p:nvSpPr>
          <p:spPr>
            <a:xfrm>
              <a:off x="5268960" y="5334120"/>
              <a:ext cx="2809800" cy="885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Скругленный прямоугольник 6"/>
            <p:cNvSpPr/>
            <p:nvPr/>
          </p:nvSpPr>
          <p:spPr>
            <a:xfrm>
              <a:off x="5280480" y="5377320"/>
              <a:ext cx="2786760" cy="736920"/>
            </a:xfrm>
            <a:prstGeom prst="rect">
              <a:avLst/>
            </a:prstGeom>
            <a:gradFill rotWithShape="0">
              <a:gsLst>
                <a:gs pos="0">
                  <a:srgbClr val="2787a0"/>
                </a:gs>
                <a:gs pos="100000">
                  <a:srgbClr val="34b3d6"/>
                </a:gs>
              </a:gsLst>
              <a:lin ang="16200000"/>
            </a:gradFill>
            <a:ln w="9360">
              <a:solidFill>
                <a:srgbClr val="46aac5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9680" rIns="49680" tIns="49680" bIns="49680" anchor="ctr">
              <a:noAutofit/>
            </a:bodyPr>
            <a:p>
              <a:pPr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577800"/>
                  <a:tab algn="l" pos="1155600"/>
                  <a:tab algn="l" pos="1733400"/>
                  <a:tab algn="l" pos="2311560"/>
                  <a:tab algn="l" pos="2889360"/>
                  <a:tab algn="l" pos="3467160"/>
                  <a:tab algn="l" pos="4044960"/>
                  <a:tab algn="l" pos="4622760"/>
                  <a:tab algn="l" pos="5200560"/>
                  <a:tab algn="l" pos="5778360"/>
                  <a:tab algn="l" pos="6356520"/>
                  <a:tab algn="l" pos="6934320"/>
                  <a:tab algn="l" pos="7512120"/>
                  <a:tab algn="l" pos="8089920"/>
                  <a:tab algn="l" pos="8667720"/>
                  <a:tab algn="l" pos="9245520"/>
                  <a:tab algn="l" pos="9823320"/>
                  <a:tab algn="l" pos="1040148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Calibri"/>
                </a:rPr>
                <a:t>гарантийное письмо о том, что в соответствии со ст.14 209-ФЗ от 24.07.2007 г., запрашиваемые для финансовой поддержки статьи расходов  ранее не финансировались из других бюджетных источников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77" name="Прямая со стрелкой 22"/>
          <p:cNvCxnSpPr>
            <a:endCxn id="60" idx="0"/>
          </p:cNvCxnSpPr>
          <p:nvPr/>
        </p:nvCxnSpPr>
        <p:spPr>
          <a:xfrm flipH="1">
            <a:off x="2770920" y="3213000"/>
            <a:ext cx="1801080" cy="735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23"/>
          <p:cNvCxnSpPr>
            <a:endCxn id="61" idx="0"/>
          </p:cNvCxnSpPr>
          <p:nvPr/>
        </p:nvCxnSpPr>
        <p:spPr>
          <a:xfrm>
            <a:off x="4572000" y="3213000"/>
            <a:ext cx="205308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27"/>
          <p:cNvCxnSpPr>
            <a:stCxn id="60" idx="2"/>
          </p:cNvCxnSpPr>
          <p:nvPr/>
        </p:nvCxnSpPr>
        <p:spPr>
          <a:xfrm>
            <a:off x="2771280" y="4379760"/>
            <a:ext cx="2520" cy="27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28"/>
          <p:cNvCxnSpPr/>
          <p:nvPr/>
        </p:nvCxnSpPr>
        <p:spPr>
          <a:xfrm>
            <a:off x="6732720" y="4392360"/>
            <a:ext cx="21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1" name="Скругленный прямоугольник 29"/>
          <p:cNvSpPr/>
          <p:nvPr/>
        </p:nvSpPr>
        <p:spPr>
          <a:xfrm>
            <a:off x="2778120" y="954000"/>
            <a:ext cx="3456000" cy="216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Прямая со стрелкой 30"/>
          <p:cNvCxnSpPr/>
          <p:nvPr/>
        </p:nvCxnSpPr>
        <p:spPr>
          <a:xfrm>
            <a:off x="4571640" y="1157400"/>
            <a:ext cx="108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полнительная документац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участия в конкурс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хема 3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6625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риоритетные направления, по которым проводится конкурс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хема 4" descr=""/>
          <p:cNvPicPr/>
          <p:nvPr/>
        </p:nvPicPr>
        <p:blipFill>
          <a:blip r:embed="rId2"/>
          <a:stretch/>
        </p:blipFill>
        <p:spPr>
          <a:xfrm>
            <a:off x="1054080" y="1517760"/>
            <a:ext cx="702936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ируемые статьи расходов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хема 4" descr=""/>
          <p:cNvPicPr/>
          <p:nvPr/>
        </p:nvPicPr>
        <p:blipFill>
          <a:blip r:embed="rId2"/>
          <a:stretch/>
        </p:blipFill>
        <p:spPr>
          <a:xfrm>
            <a:off x="378000" y="974880"/>
            <a:ext cx="8315280" cy="4187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84120" y="5229360"/>
            <a:ext cx="835344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ый объем гранта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более 10 млн. руб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му малому инновационному предприятию, при условии, что размер собственных средств получателя гранта и (или) средств третьих лиц, привлеченных для выполнения инновационного проекта не может быть менее величины получаемого гра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14 Федерального закона № 209-ФЗ от 24.07.2007 г. запрашиваемые для финансовой поддержки статьи расходов, согласно прилагаемой смет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должны ранее финансироваться из других бюджетных источ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324000" y="6453360"/>
            <a:ext cx="83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ечень расходов предварительный, после согласования с Минэкономразвития и Минфином РФ возможны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 заяв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хема 2" descr=""/>
          <p:cNvPicPr/>
          <p:nvPr/>
        </p:nvPicPr>
        <p:blipFill>
          <a:blip r:embed="rId2"/>
          <a:stretch/>
        </p:blipFill>
        <p:spPr>
          <a:xfrm>
            <a:off x="695160" y="1407960"/>
            <a:ext cx="78948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рядок предоставления гран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кругленный прямоугольник 2"/>
          <p:cNvSpPr/>
          <p:nvPr/>
        </p:nvSpPr>
        <p:spPr>
          <a:xfrm>
            <a:off x="1128600" y="1052640"/>
            <a:ext cx="293868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финансовое обеспеч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5292720" y="1052640"/>
            <a:ext cx="2808360" cy="43164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возмещение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хема 4" descr=""/>
          <p:cNvPicPr/>
          <p:nvPr/>
        </p:nvPicPr>
        <p:blipFill>
          <a:blip r:embed="rId2"/>
          <a:stretch/>
        </p:blipFill>
        <p:spPr>
          <a:xfrm>
            <a:off x="523800" y="1609560"/>
            <a:ext cx="4011840" cy="4645080"/>
          </a:xfrm>
          <a:prstGeom prst="rect">
            <a:avLst/>
          </a:prstGeom>
          <a:ln w="0">
            <a:noFill/>
          </a:ln>
        </p:spPr>
      </p:pic>
      <p:grpSp>
        <p:nvGrpSpPr>
          <p:cNvPr id="97" name="Группа 5"/>
          <p:cNvGrpSpPr/>
          <p:nvPr/>
        </p:nvGrpSpPr>
        <p:grpSpPr>
          <a:xfrm>
            <a:off x="4716360" y="1628640"/>
            <a:ext cx="3959280" cy="1152720"/>
            <a:chOff x="4716360" y="1628640"/>
            <a:chExt cx="3959280" cy="1152720"/>
          </a:xfrm>
        </p:grpSpPr>
        <p:sp>
          <p:nvSpPr>
            <p:cNvPr id="98" name="Выноска со стрелкой вверх 6"/>
            <p:cNvSpPr/>
            <p:nvPr/>
          </p:nvSpPr>
          <p:spPr>
            <a:xfrm rot="10800000">
              <a:off x="4716360" y="1628640"/>
              <a:ext cx="3959280" cy="1152720"/>
            </a:xfrm>
            <a:prstGeom prst="upArrowCallout">
              <a:avLst>
                <a:gd name="adj1" fmla="val 24999"/>
                <a:gd name="adj2" fmla="val 24997"/>
                <a:gd name="adj3" fmla="val 25000"/>
                <a:gd name="adj4" fmla="val 70041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Выноска со стрелкой вверх 4"/>
            <p:cNvSpPr/>
            <p:nvPr/>
          </p:nvSpPr>
          <p:spPr>
            <a:xfrm>
              <a:off x="4716360" y="1628640"/>
              <a:ext cx="395928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320" rIns="85320" tIns="85320" bIns="85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Заключение контракта на предоставления грантов малому инновационного предприятию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Calibri"/>
                </a:rPr>
                <a:t>на возмещение расходов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Прямоугольник 12"/>
          <p:cNvSpPr/>
          <p:nvPr/>
        </p:nvSpPr>
        <p:spPr>
          <a:xfrm>
            <a:off x="4859280" y="5373720"/>
            <a:ext cx="3673440" cy="1368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5 лет после получения Гранта предприятие ежегодно до 15 апреля предоставляет в Фон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ю о достижении плановых показателей реализации инновационного проек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хгалтерскую отчетность и сведения о среднесписочной численности за прошедший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трелка вниз 13"/>
          <p:cNvSpPr/>
          <p:nvPr/>
        </p:nvSpPr>
        <p:spPr>
          <a:xfrm rot="16200000">
            <a:off x="4473360" y="5697000"/>
            <a:ext cx="390600" cy="320400"/>
          </a:xfrm>
          <a:prstGeom prst="downArrow">
            <a:avLst>
              <a:gd name="adj1" fmla="val 37194"/>
              <a:gd name="adj2" fmla="val 63852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трелка вниз 14"/>
          <p:cNvSpPr/>
          <p:nvPr/>
        </p:nvSpPr>
        <p:spPr>
          <a:xfrm>
            <a:off x="6480000" y="4956120"/>
            <a:ext cx="432000" cy="417600"/>
          </a:xfrm>
          <a:prstGeom prst="downArrow">
            <a:avLst>
              <a:gd name="adj1" fmla="val 35287"/>
              <a:gd name="adj2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хема 18" descr=""/>
          <p:cNvPicPr/>
          <p:nvPr/>
        </p:nvPicPr>
        <p:blipFill>
          <a:blip r:embed="rId3"/>
          <a:stretch/>
        </p:blipFill>
        <p:spPr>
          <a:xfrm>
            <a:off x="4687920" y="2755800"/>
            <a:ext cx="387648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стых Денис Валерьевич - консультант отдела экспертизы и мониторин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нда содействия развитию малых форм предприятий в научно-технической сф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19034, Москва, 3-й Обыденский переулок, д.1, стр.5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б. 1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.: +7 (495) 231-19-06 доб.15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lstykh@fasie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7:34:53Z</dcterms:created>
  <dc:creator>Толстых Денис Валерьевич</dc:creator>
  <dc:description/>
  <dc:language>en-US</dc:language>
  <cp:lastModifiedBy>Alexey</cp:lastModifiedBy>
  <dcterms:modified xsi:type="dcterms:W3CDTF">2014-09-24T12:46:09Z</dcterms:modified>
  <cp:revision>53</cp:revision>
  <dc:subject/>
  <dc:title>ОТКРЫТЫЙ КОНКУРС   ДЛЯ СУБЪЕКТОВ МАЛОГО ПРЕДПРИНИМАТЕЛЬСТВА</dc:title>
</cp:coreProperties>
</file>